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B45E5-FD63-4BCC-8E89-13603CFD58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EDEB1-694D-4F6F-B040-5FCD3B65B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Government by the People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elby, David. P. 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A0C6E-310C-4DCA-B175-D8ACD584AC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7AC7F-F513-44AB-84DB-F823FC639F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CC7-FB6C-4E16-A7E8-DC54270B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4B9-F4B2-4717-9EAF-475C8F3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7E0-EC71-43B2-A187-46D7A5E7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C48-45FC-4BD6-9E61-DE3AC149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624-3936-4F2A-A2F2-451BF7B5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98A-6DDD-40A5-AA07-D0E786D5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7F0-A164-4BBB-85A6-5633831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B89-0440-4011-A423-846C99E1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E31-CA09-4609-8720-D42A1EAF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EA0-A9DC-45C7-BA51-B531AA2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6E1-089E-4617-805B-8667262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AA2-6507-4601-A15A-58FDF34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B2F82-026E-4057-9FC8-EE9FB3A423D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87D2A-DF35-41F7-8CAD-BC58B15EE2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3 – Section 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71-7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Objectiv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three basic forms of governmental structures: federalism, unitary, and confederac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are and contrast the different interpretations of federalis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how federalism protects citizen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a constitution distributes power and authority between a central government and smaller, regional governmen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wer is derived from the people through the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th levels exercise power over the peopl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Content Placeholder 1" descr=""/>
          <p:cNvPicPr/>
          <p:nvPr/>
        </p:nvPicPr>
        <p:blipFill>
          <a:blip r:embed="rId1"/>
          <a:srcRect l="0" t="544" r="0" b="54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ternatives to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deralism Protects Citizen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ecks the Growth of Tyrann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ows Unity Without Uniform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courages Experimentatio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vides Training for National Officia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eeps Government Closer to the Peop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iagram 1" descr=""/>
          <p:cNvPicPr/>
          <p:nvPr/>
        </p:nvPicPr>
        <p:blipFill>
          <a:blip r:embed="rId1"/>
          <a:stretch/>
        </p:blipFill>
        <p:spPr>
          <a:xfrm>
            <a:off x="822240" y="933480"/>
            <a:ext cx="7394760" cy="5600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477720" y="460440"/>
            <a:ext cx="8026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Number of Governments in the United States, 2007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ng Federal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s Federalism So Importa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entralizes our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opportunities to particip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entralizes our polic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deral and state governments handle different problem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tes regulate drinking ages, marriage, and speed limi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s can solve the same problem in different ways and tend to be policy innovato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1:15:39Z</dcterms:created>
  <dc:creator>Katie Madison</dc:creator>
  <dc:description/>
  <dc:language>en-US</dc:language>
  <cp:lastModifiedBy>madisonk Madison</cp:lastModifiedBy>
  <dcterms:modified xsi:type="dcterms:W3CDTF">2014-09-09T13:49:40Z</dcterms:modified>
  <cp:revision>4</cp:revision>
  <dc:subject/>
  <dc:title>Federalism Protects Citizens </dc:title>
</cp:coreProperties>
</file>